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259920"/>
            <a:ext cx="699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6520" y="259920"/>
            <a:ext cx="699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676520" y="259920"/>
            <a:ext cx="699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520" y="259920"/>
            <a:ext cx="699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LS-Generic-PPT-Hea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bc2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66bc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Picture 5" descr="LS-Generic-PPT-Footer.pn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LS-Generic-PPT-Hea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LS-Generic-PPT-Footer.pn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S-PPT-abstract-backgrnd-3.jpg"/>
          <p:cNvPicPr/>
          <p:nvPr/>
        </p:nvPicPr>
        <p:blipFill>
          <a:blip r:embed="rId4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S-Generic-PPT-Footer.png"/>
          <p:cNvPicPr/>
          <p:nvPr/>
        </p:nvPicPr>
        <p:blipFill>
          <a:blip r:embed="rId5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S-Generic-PPT-Header.png"/>
          <p:cNvPicPr/>
          <p:nvPr/>
        </p:nvPicPr>
        <p:blipFill>
          <a:blip r:embed="rId6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bc2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66bc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LS-Generic-PPT-Hea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LS-Generic-PPT-Footer.pn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LS-Generic-PPT-Footer.png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LS-Generic-PPT-Header.png"/>
          <p:cNvPicPr/>
          <p:nvPr/>
        </p:nvPicPr>
        <p:blipFill>
          <a:blip r:embed="rId5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S-PPT-abstract-backgrnd-3.jpg"/>
          <p:cNvPicPr/>
          <p:nvPr/>
        </p:nvPicPr>
        <p:blipFill>
          <a:blip r:embed="rId6"/>
          <a:stretch/>
        </p:blipFill>
        <p:spPr>
          <a:xfrm>
            <a:off x="0" y="35812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bc2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66bc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LS-Generic-PPT-Hea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7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LS-Generic-PPT-Footer.pn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LS-Generic-PPT-Footer.png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bc2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66bc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66bc2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Changes to Funding in Litigation</a:t>
            </a:r>
            <a:endParaRPr b="0" lang="en-US" sz="36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68" name="Rectangle 1026"/>
          <p:cNvSpPr/>
          <p:nvPr/>
        </p:nvSpPr>
        <p:spPr>
          <a:xfrm>
            <a:off x="755640" y="3213000"/>
            <a:ext cx="79898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rk Stob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irector of Leg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he Law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170028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police station – everyone is entitled to free legal advice irrespective of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magistrates courts – entitled to free advice and representation if income is under £12,000.  If income between £12,000 and £25,000, a means test a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Crown Court – entitled in free advice and representation if disposable income is above £39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bove the income thresholds you pay priv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re acquitted and you were paying privately, your costs are paid at legal aid r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riminal cases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1700280"/>
            <a:ext cx="79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, there is a merits test for assistance in criminal cases.  The criteria inclu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likely that the client will lose their libe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lient has been given a sentence that is suspended or non-custodial. If they break this, the court may be able to deal with them for the original of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likely that they will lose their livelih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likely that they will suffer serious damage to their repu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ubstantial question of law may be invol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lient may not be able to understand the court proceedings or present their own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nesses may need to be traced or interview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edings may involve expert cross-examination of a prosecution witnes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riminal cases 2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11280" y="17002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ther a client receives legal aid will depen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ype of legal probl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ncial eligibility - taking into consideration income and ca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rits test -  whether there is a reasonable chance of winning the c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idence  test  (from August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ivil Cases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11280" y="1700280"/>
            <a:ext cx="79214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ypes of case that will receive funding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law family, i.e. care procee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law family where there has been domestic violence /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mily 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ing relating to serious disrepair, homelessness or repos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t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t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tory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 educational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law, i.e. judicial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ional cases - usually including human rights issues.  In practice very few cases have been granted exceptional fu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ivil Cases 2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11280" y="170028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ncial eligibili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ss monthly  income must be less than £2,657.  This does not apply to representation at a Mental Health Review Tribunal or parents in care procee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osable capital must be less than £8,000, (or £3000 if it is for an Immigration / Asylum appeal)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home is considered capital, subject to a disregard of up to a maximum of £100,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s may have to make contributions towards the cost of their case by way of a lump sum, monthly contribution or repayment from dama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ivil Cases 3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11280" y="1700280"/>
            <a:ext cx="79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erit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al help may only be provided where there is sufficient benefit to the client to justify work or further work being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al aid will only be granted where the prospects for success are at least 5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idenc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August 2014 civil legal aid clients will also have to satisfy a residence test that requires that the client is lawfully resident at the date of the application  for legal aid and has also been resident for a continuous period of 12 months in the p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 – Civil Cases 4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11280" y="1700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tizen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w Centres/Legal Advice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 bono from law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cKenzie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sit beside a litigant in person in court – can mak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resentations to the court if the judge ag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Other Sources of Advice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What costs are involved in legal work?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258920" y="1341360"/>
            <a:ext cx="66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lawyer’s own fees to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costs of the office and staf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profits for the firm – to pay income to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sts associated with the c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ees for documents/search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medical assessments/experts’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arristers’ f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 some cases, if you lose, the other side’s costs, but 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ribu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mall 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ince 2012, personal injury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423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How much?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403280" y="1557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ong is a piece of str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Up to firms and the market b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xpertis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haviour of the oth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simple will might cost £100 - £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simple conveyancing transaction £200 - £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contentious case involving a court hearing – thousa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7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How do you pay?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547640" y="1197000"/>
            <a:ext cx="734544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n-contentious work (wills, conveyancing, contracts, general legal advice) – always paid privately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ntentious work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-win/no 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ird party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egal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 Personal Injury (PI) cases, the claimant is not liable for the other side’s costs unless (a) they have behaved dishonestly or (b) have refused a reasonable offer of settlement which was not beaten by the court’s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19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Insurance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47640" y="1413000"/>
            <a:ext cx="66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 the event (B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ought like other insurance policies “just in cas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Often included in household/motor policies or a relatively cheap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Often limited to particular types of works/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surer will often dictate the choice of the law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fter the event (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vers the other side’s costs and your disburs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n be expensive – but the policy can also include a refund of the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Usually used in conjunction with no win/no fee agre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ditional Fee Agree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icitor does not charge until the end of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case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lient does not pay the solicitors’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 may be liable for disbursements and for the other side’s costs (not, usually in Personal Inj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client w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licitor can charge the client an uplift on the normal fee of up to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I cases that uplift cannot exceed 25% of the da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No win/No fee agreements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1280" y="170028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mages Based Agree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icitor does not charge until the end of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case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lient does not pay the solicitors’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 may be liable for disbursements and for the other side’s costs (not, usually in Personal Inj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client w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licitor can charge the client a percentage of the damages obtained up to 50% of damages (25% in PI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rarely in litigation because the rules are uncl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rrangement (known as a contingency fee) is often used in non-contentious deals where the solicitor may take a percentage of the value of the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No win/No fee agreements 2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11280" y="1700280"/>
            <a:ext cx="79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third party agrees to pay the costs of the action and, if it’s unsuccessful, the other side’s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times an informal arrangement for a relative or charity or supporting 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times commercial organisations will do it for a share of the damages – this is unregulated and usually only in very high value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Third Party Funding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11280" y="1700280"/>
            <a:ext cx="79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Government scheme to pay the legal costs of people who cannot afford to pay them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ment contracts with solicitors firms to pay set rates for each case provi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ase falls within sco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lient falls within the eligibility limits in terms of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5992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6bc29"/>
                </a:solidFill>
                <a:latin typeface="Trebuchet MS"/>
              </a:rPr>
              <a:t>Legal Aid</a:t>
            </a:r>
            <a:endParaRPr b="0" lang="en-US" sz="3200" spc="-1" strike="noStrike">
              <a:solidFill>
                <a:srgbClr val="66bc2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4:47:40Z</dcterms:created>
  <dc:creator>MARK</dc:creator>
  <dc:description/>
  <dc:language>en-US</dc:language>
  <cp:lastModifiedBy>Waleed Bagadi</cp:lastModifiedBy>
  <cp:lastPrinted>2014-07-08T08:33:57Z</cp:lastPrinted>
  <dcterms:modified xsi:type="dcterms:W3CDTF">2014-07-15T13:52:48Z</dcterms:modified>
  <cp:revision>212</cp:revision>
  <dc:subject/>
  <dc:title>Slide 1</dc:title>
</cp:coreProperties>
</file>