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5a1b5c"/>
              </a:solidFill>
              <a:latin typeface="Arial"/>
            </a:endParaRPr>
          </a:p>
        </p:txBody>
      </p:sp>
      <p:sp>
        <p:nvSpPr>
          <p:cNvPr id="85" name="PlaceHolder 1"/>
          <p:cNvSpPr>
            <a:spLocks noGrp="1"/>
          </p:cNvSpPr>
          <p:nvPr>
            <p:ph type="hdr"/>
          </p:nvPr>
        </p:nvSpPr>
        <p:spPr>
          <a:xfrm>
            <a:off x="-36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776400" y="-360"/>
            <a:ext cx="2886120" cy="49212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871200" y="738000"/>
            <a:ext cx="4917960" cy="36874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move the slide</a:t>
            </a:r>
            <a:endParaRPr b="1" lang="en-US" sz="4000" spc="-1" strike="noStrike">
              <a:solidFill>
                <a:srgbClr val="5a1b5c"/>
              </a:solidFill>
              <a:latin typeface="Arial"/>
            </a:endParaRPr>
          </a:p>
        </p:txBody>
      </p:sp>
      <p:sp>
        <p:nvSpPr>
          <p:cNvPr id="88" name="PlaceHolder 4"/>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40560"/>
            <a:ext cx="2886120" cy="49212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776400" y="9340560"/>
            <a:ext cx="2886120" cy="492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2236E-01ED-44F5-881F-45EA0F8D74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jac.judiciary.gov.uk/application-process/112.htm"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A4B9D-F8A1-4197-91C3-2633C54200B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3" name="PlaceHolder 1"/>
          <p:cNvSpPr>
            <a:spLocks noGrp="1"/>
          </p:cNvSpPr>
          <p:nvPr>
            <p:ph type="sldImg"/>
          </p:nvPr>
        </p:nvSpPr>
        <p:spPr>
          <a:xfrm>
            <a:off x="871560" y="738360"/>
            <a:ext cx="4917960" cy="3687480"/>
          </a:xfrm>
          <a:prstGeom prst="rect">
            <a:avLst/>
          </a:prstGeom>
          <a:ln w="0">
            <a:noFill/>
          </a:ln>
        </p:spPr>
      </p:sp>
      <p:sp>
        <p:nvSpPr>
          <p:cNvPr id="134"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are an independent commission (of lay, professional and judicial members) who began operation in April 2006 to select candidates for judicial office on merit through fair and open competi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We were set up in order to maintain and strengthen judicial independence by taking responsibility for selecting candidates for judicial office out of the hands of the Lord Chancellor; and making the appointments process clearer and more accountable.</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composition of the Commission is prescribed by statute. There must be a lay Chairman and fourteen Commissioners, comprising five judicial members, one barrister, one solicitor, five lay members, one tribunal member and one lay justice.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08174-6015-4186-850C-1DBD537CC4A4}"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0" name="PlaceHolder 1"/>
          <p:cNvSpPr>
            <a:spLocks noGrp="1"/>
          </p:cNvSpPr>
          <p:nvPr>
            <p:ph type="sldImg"/>
          </p:nvPr>
        </p:nvSpPr>
        <p:spPr>
          <a:xfrm>
            <a:off x="871560" y="738360"/>
            <a:ext cx="4917960" cy="3687480"/>
          </a:xfrm>
          <a:prstGeom prst="rect">
            <a:avLst/>
          </a:prstGeom>
          <a:ln w="0">
            <a:noFill/>
          </a:ln>
        </p:spPr>
      </p:sp>
      <p:sp>
        <p:nvSpPr>
          <p:cNvPr id="161"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final part of the application form asks you to complete a good character declaration. See our website for details and our guide. It is quite clear what it is asking you to declare, but if you are in any doubt, put it down! We will find ou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 character decision (re points on driving licence due to speeding) was recently challenged by a candidate seeking to become a District Judge and subject to a judicial review. We won. Judgment on our websit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0E798-AD5C-4637-A477-85DE405DDAD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3" name="PlaceHolder 1"/>
          <p:cNvSpPr>
            <a:spLocks noGrp="1"/>
          </p:cNvSpPr>
          <p:nvPr>
            <p:ph type="sldImg"/>
          </p:nvPr>
        </p:nvSpPr>
        <p:spPr>
          <a:xfrm>
            <a:off x="871560" y="738360"/>
            <a:ext cx="4917960" cy="3687480"/>
          </a:xfrm>
          <a:prstGeom prst="rect">
            <a:avLst/>
          </a:prstGeom>
          <a:ln w="0">
            <a:noFill/>
          </a:ln>
        </p:spPr>
      </p:sp>
      <p:sp>
        <p:nvSpPr>
          <p:cNvPr id="164"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A601C-3737-4702-84C7-EECD3830CC5B}"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6" name="PlaceHolder 1"/>
          <p:cNvSpPr>
            <a:spLocks noGrp="1"/>
          </p:cNvSpPr>
          <p:nvPr>
            <p:ph type="sldImg"/>
          </p:nvPr>
        </p:nvSpPr>
        <p:spPr>
          <a:xfrm>
            <a:off x="871560" y="738360"/>
            <a:ext cx="4917960" cy="3687480"/>
          </a:xfrm>
          <a:prstGeom prst="rect">
            <a:avLst/>
          </a:prstGeom>
          <a:ln w="0">
            <a:noFill/>
          </a:ln>
        </p:spPr>
      </p:sp>
      <p:sp>
        <p:nvSpPr>
          <p:cNvPr id="167"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re are two ways we shortlist candidates, either by the more traditional paper based sift or by online qualifying tes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If a </a:t>
            </a:r>
            <a:r>
              <a:rPr b="0" lang="en-GB" sz="1000" spc="-1" strike="noStrike" u="sng">
                <a:solidFill>
                  <a:srgbClr val="000000"/>
                </a:solidFill>
                <a:uFillTx/>
                <a:latin typeface="Arial Unicode MS"/>
              </a:rPr>
              <a:t>paper sift</a:t>
            </a:r>
            <a:r>
              <a:rPr b="0" lang="en-GB" sz="1000" spc="-1" strike="noStrike">
                <a:solidFill>
                  <a:srgbClr val="000000"/>
                </a:solidFill>
                <a:latin typeface="Arial Unicode MS"/>
              </a:rPr>
              <a:t> is being used for shortlisting, references will be taken up before the sift. </a:t>
            </a:r>
            <a:r>
              <a:rPr b="0" lang="en-GB" sz="1000" spc="-1" strike="noStrike">
                <a:solidFill>
                  <a:srgbClr val="000000"/>
                </a:solidFill>
                <a:latin typeface="Arial Unicode MS"/>
                <a:ea typeface="Arial"/>
              </a:rPr>
              <a:t>Each panel member considers all available information on each candidate and assesses information against the qualities. </a:t>
            </a:r>
            <a:r>
              <a:rPr b="0" lang="en-GB" sz="1000" spc="-1" strike="noStrike">
                <a:solidFill>
                  <a:srgbClr val="000000"/>
                </a:solidFill>
                <a:latin typeface="Arial Unicode MS"/>
              </a:rPr>
              <a:t>As you can appreciate if you have 1000 applicants it is simply not feasible to sift in this way but it is used for smaller exercises and senior judicial role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ach test is different, to fit the particular nature of the posts being advertised. Tests are designed to be fair to all eligible candidates, regardless of their specialism or legal background. Short-listing is a competitive process, so the tests are designed to be challenging, with time pressure. Qualifying tests are usually set, marked and moderated using Judges from the relevant area</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Some previous qualifying tests are available on our website and there are now examiner feedback reports also available. We publish on our website an examiners feedback report for all qualifying tests – we hope this will help candidates who are unsuccessful identify where they went wrong and how they might improve. </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C2172-1A9A-461D-A13D-81F6B4BBEFA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69" name="PlaceHolder 1"/>
          <p:cNvSpPr>
            <a:spLocks noGrp="1"/>
          </p:cNvSpPr>
          <p:nvPr>
            <p:ph type="sldImg"/>
          </p:nvPr>
        </p:nvSpPr>
        <p:spPr>
          <a:xfrm>
            <a:off x="874800" y="738360"/>
            <a:ext cx="4916520" cy="3687480"/>
          </a:xfrm>
          <a:prstGeom prst="rect">
            <a:avLst/>
          </a:prstGeom>
          <a:ln w="0">
            <a:noFill/>
          </a:ln>
        </p:spPr>
      </p:sp>
      <p:sp>
        <p:nvSpPr>
          <p:cNvPr id="17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f shortlisted, candidates are invited to a selection day, Candidates will be expected to demonstrate the qualities and abilities required, using appropriate examples.</a:t>
            </a:r>
            <a:endParaRPr b="0" lang="en-US" sz="14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JAC uses trained, independent assessors as well as judg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 shortlisted, candidates are invited to a selection day, which may consist of a panel interview, interview and role play, interview and presentation or interview and situational questioning. Candidates will be expected to demonstrate the qualities and abilities required, using appropriate examp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terviews</a:t>
            </a:r>
            <a:r>
              <a:rPr b="0" lang="en-GB" sz="1200" spc="-1" strike="noStrike">
                <a:solidFill>
                  <a:srgbClr val="000000"/>
                </a:solidFill>
                <a:latin typeface="Times New Roman"/>
              </a:rPr>
              <a:t> - Interview panels consist of three to five panel members including a Chair, a Judicial Member and an Independent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Role play</a:t>
            </a:r>
            <a:r>
              <a:rPr b="0" lang="en-GB" sz="1200" spc="-1" strike="noStrike">
                <a:solidFill>
                  <a:srgbClr val="000000"/>
                </a:solidFill>
                <a:latin typeface="Times New Roman"/>
              </a:rPr>
              <a:t> - Role play usually simulates a court or tribunal environment. Candidates are asked to take on the role of judge and respond to a simulated situation. These exercises assess how you would deal with situations you might face and decisions you would be asked to make if you were appointed. They enable you to demonstrate whether you have the required qualities and abilities and whether you can perform under challenge and pres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ituational questioning</a:t>
            </a:r>
            <a:r>
              <a:rPr b="0" lang="en-GB" sz="1200" spc="-1" strike="noStrike">
                <a:solidFill>
                  <a:srgbClr val="000000"/>
                </a:solidFill>
                <a:latin typeface="Times New Roman"/>
              </a:rPr>
              <a:t> - Situational questioning focuses on what a candidate would do in a specific situation.  This technique involves questions concerning a hypothetical situation based on challenging, real-life, job-related occurrences and asks the candidate how they would handle the probl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446F-07DA-4797-B438-F301CB4A39A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2" name="PlaceHolder 1"/>
          <p:cNvSpPr>
            <a:spLocks noGrp="1"/>
          </p:cNvSpPr>
          <p:nvPr>
            <p:ph type="sldImg"/>
          </p:nvPr>
        </p:nvSpPr>
        <p:spPr>
          <a:xfrm>
            <a:off x="871560" y="738360"/>
            <a:ext cx="4917960" cy="3687480"/>
          </a:xfrm>
          <a:prstGeom prst="rect">
            <a:avLst/>
          </a:prstGeom>
          <a:ln w="0">
            <a:noFill/>
          </a:ln>
        </p:spPr>
      </p:sp>
      <p:sp>
        <p:nvSpPr>
          <p:cNvPr id="17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atutory consultation</a:t>
            </a:r>
            <a:br>
              <a:rPr sz="1200"/>
            </a:br>
            <a:r>
              <a:rPr b="0" lang="en-GB" sz="1200" spc="-1" strike="noStrike">
                <a:solidFill>
                  <a:srgbClr val="000000"/>
                </a:solidFill>
                <a:latin typeface="Times New Roman"/>
              </a:rPr>
              <a:t>As required by the Judicial Appointment Regulations 2013, the JAC will carry out consultation as part of each selection exercise unless it is agreed in advance between the JAC Chairman and the Appropriate Authority (Lord Chancellor, Lord Chief Justice or Senior President of Tribunals) not to do so.  When consultation is taking place, we are required to consult a person (other than the Appropriate Authority) who has held the office for which the selection is to be made or who has other relevant experience. This individual will be identified in the information pack for the selection exercise and summary reports will be sent to them for comment.  The JAC may also consult another person who has held the office for which the selection is to be made or has other relevant experience. For High Court selection exercises, this is likely to include the Lord Chief Justice, and one other person. </a:t>
            </a:r>
            <a:br>
              <a:rPr sz="1200"/>
            </a:br>
            <a:br>
              <a:rPr sz="1200"/>
            </a:b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9DC9-5107-4CED-B11E-2DED2472C0A7}"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5" name="PlaceHolder 1"/>
          <p:cNvSpPr>
            <a:spLocks noGrp="1"/>
          </p:cNvSpPr>
          <p:nvPr>
            <p:ph type="sldImg"/>
          </p:nvPr>
        </p:nvSpPr>
        <p:spPr>
          <a:xfrm>
            <a:off x="871560" y="738360"/>
            <a:ext cx="4917960" cy="3687480"/>
          </a:xfrm>
          <a:prstGeom prst="rect">
            <a:avLst/>
          </a:prstGeom>
          <a:ln w="0">
            <a:noFill/>
          </a:ln>
        </p:spPr>
      </p:sp>
      <p:sp>
        <p:nvSpPr>
          <p:cNvPr id="176" name="PlaceHolder 2"/>
          <p:cNvSpPr>
            <a:spLocks noGrp="1"/>
          </p:cNvSpPr>
          <p:nvPr>
            <p:ph type="body"/>
          </p:nvPr>
        </p:nvSpPr>
        <p:spPr>
          <a:xfrm>
            <a:off x="887400" y="4671720"/>
            <a:ext cx="4888080" cy="4422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DDC13-17A9-4312-9704-9405ABD250F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78" name="PlaceHolder 1"/>
          <p:cNvSpPr>
            <a:spLocks noGrp="1"/>
          </p:cNvSpPr>
          <p:nvPr>
            <p:ph type="sldImg"/>
          </p:nvPr>
        </p:nvSpPr>
        <p:spPr>
          <a:xfrm>
            <a:off x="901800" y="762120"/>
            <a:ext cx="4862520" cy="3646440"/>
          </a:xfrm>
          <a:prstGeom prst="rect">
            <a:avLst/>
          </a:prstGeom>
          <a:ln w="0">
            <a:noFill/>
          </a:ln>
        </p:spPr>
      </p:sp>
      <p:sp>
        <p:nvSpPr>
          <p:cNvPr id="179" name="PlaceHolder 2"/>
          <p:cNvSpPr>
            <a:spLocks noGrp="1"/>
          </p:cNvSpPr>
          <p:nvPr>
            <p:ph type="body"/>
          </p:nvPr>
        </p:nvSpPr>
        <p:spPr>
          <a:xfrm>
            <a:off x="896760" y="4636800"/>
            <a:ext cx="4865760" cy="44830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Diversity statistics are generated throughout the selection process at formal checkpoi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Application</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hortlisting</a:t>
            </a:r>
            <a:endParaRPr b="0" lang="en-US" sz="1200" spc="-1" strike="noStrike">
              <a:solidFill>
                <a:srgbClr val="000000"/>
              </a:solidFill>
              <a:latin typeface="Times New Roman"/>
            </a:endParaRPr>
          </a:p>
          <a:p>
            <a:pPr lvl="2" marL="38088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Post Selection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o date it has only been used for monitoring purposes and the creation of our twice yearly statistical bulletins. That is about to cha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ile we do not currently collect or monitor data specifically on social mobility, the JAC is working closely with the profession and judiciary to encourage them to work with schools and colleges to ensure that students from under represented groups understand that a judicial career is open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84F6F-F277-4FDD-80B7-9E03A774BDA2}"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1" name="PlaceHolder 1"/>
          <p:cNvSpPr>
            <a:spLocks noGrp="1"/>
          </p:cNvSpPr>
          <p:nvPr>
            <p:ph type="sldImg"/>
          </p:nvPr>
        </p:nvSpPr>
        <p:spPr>
          <a:xfrm>
            <a:off x="871560" y="738360"/>
            <a:ext cx="4917960" cy="3687480"/>
          </a:xfrm>
          <a:prstGeom prst="rect">
            <a:avLst/>
          </a:prstGeom>
          <a:ln w="0">
            <a:noFill/>
          </a:ln>
        </p:spPr>
      </p:sp>
      <p:sp>
        <p:nvSpPr>
          <p:cNvPr id="18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rime and Courts Act 2013 introduced the Equal Merit Provisio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ollowing Royal Assent of the CCA the JAC issued a three-month public consultation on the proposed implementation of the provision.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olicy (published on 8 April 2014) will apply to all selection exercises launching on or after 1 July 2014.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Individual decisions, to be made by the Commission sitting as the Selection and Character Committee, will be based on all the evidence gathered during the selection proces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JAC will report in its Official Statistics, starting in June 2015, the number of instances where an individual has been selected following application of the polic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ultation response is on the JAC website alongside the policy. We received 53 responses in total – 69% of the 49 substantive responses were in favour of implementation of the Equal Merit Provision and 29% were agains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provision gives the JAC another tool to use in continuing to improve the diversity of the judiciary. It will not solve the issue of increasing diversity on its own. However, it could make a positive contribution alongside the other efforts of the JAC, the legal profession, government and the judiciary.</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734E2-E308-45B8-88C2-734F1E3AA4D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4" name="PlaceHolder 1"/>
          <p:cNvSpPr>
            <a:spLocks noGrp="1"/>
          </p:cNvSpPr>
          <p:nvPr>
            <p:ph type="sldImg"/>
          </p:nvPr>
        </p:nvSpPr>
        <p:spPr>
          <a:xfrm>
            <a:off x="871560" y="738360"/>
            <a:ext cx="4917960" cy="3687480"/>
          </a:xfrm>
          <a:prstGeom prst="rect">
            <a:avLst/>
          </a:prstGeom>
          <a:ln w="0">
            <a:noFill/>
          </a:ln>
        </p:spPr>
      </p:sp>
      <p:sp>
        <p:nvSpPr>
          <p:cNvPr id="18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pplied for judicial appointment in higher numbers since the JAC was set up, and those numbers have continued to 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men and BAME candidates have also done slightly better in the selection process since the JAC was created, with a small increase in those recommended. Overall this trend has continued, although recently the proportion of recommendations of BAME candidates for Tribunal posts has fallen sligh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p-to-date internal analysis on trends in courts selections shows the proportion of recommendations of BAME candidates has risen in all the posts examined compared to pre-JAC exerci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43A7D-BF04-4448-B00F-4F9C6AEB824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6" name="PlaceHolder 1"/>
          <p:cNvSpPr>
            <a:spLocks noGrp="1"/>
          </p:cNvSpPr>
          <p:nvPr>
            <p:ph type="sldImg"/>
          </p:nvPr>
        </p:nvSpPr>
        <p:spPr>
          <a:xfrm>
            <a:off x="871560" y="738360"/>
            <a:ext cx="4917960" cy="3687480"/>
          </a:xfrm>
          <a:prstGeom prst="rect">
            <a:avLst/>
          </a:prstGeom>
          <a:ln w="0">
            <a:noFill/>
          </a:ln>
        </p:spPr>
      </p:sp>
      <p:sp>
        <p:nvSpPr>
          <p:cNvPr id="137" name="PlaceHolder 2"/>
          <p:cNvSpPr>
            <a:spLocks noGrp="1"/>
          </p:cNvSpPr>
          <p:nvPr>
            <p:ph type="body"/>
          </p:nvPr>
        </p:nvSpPr>
        <p:spPr>
          <a:xfrm>
            <a:off x="887400" y="4671720"/>
            <a:ext cx="4888080" cy="4422600"/>
          </a:xfrm>
          <a:prstGeom prst="rect">
            <a:avLst/>
          </a:prstGeom>
          <a:noFill/>
          <a:ln w="0">
            <a:noFill/>
          </a:ln>
        </p:spPr>
        <p:txBody>
          <a:bodyPr anchor="t">
            <a:noAutofit/>
          </a:bodyPr>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Constitutional Reform Act 2005 (CR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made the Lord Chief Justice the Head of the judiciar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removed the Lord Chancellor’s role as Speaker of the House of Lord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 new Supreme Cour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created an independent Commission to select judges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legislation reformed the office of the Lord Chancellor -  to remove the ability of the holder to act as both a government minister and a judge. This arrangement ran contrary to the idea of separation of powers. The reform was motivated by concerns that the mix of legislative, judicial, and executive power might not conform with the requirements of Article 6 of the European Convention on Human Rights, because a judicial officer, having legislative or executive power, is likely not to be considered sufficiently impartial to provide a fair tr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hird part of the act is about the appointment of jud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us we were set up on 3 April 2006 in order to maintain and strengthen judicial independence by taking responsibility for selecting candidates for judicial office out of the hands of the Lord Chancellor and making the appointments process clearer and more accoun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CDC1B-AEE7-4BE9-9F11-41141DC6802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87" name="PlaceHolder 1"/>
          <p:cNvSpPr>
            <a:spLocks noGrp="1"/>
          </p:cNvSpPr>
          <p:nvPr>
            <p:ph type="sldImg"/>
          </p:nvPr>
        </p:nvSpPr>
        <p:spPr>
          <a:xfrm>
            <a:off x="871560" y="738360"/>
            <a:ext cx="4917960" cy="3687480"/>
          </a:xfrm>
          <a:prstGeom prst="rect">
            <a:avLst/>
          </a:prstGeom>
          <a:ln w="0">
            <a:noFill/>
          </a:ln>
        </p:spPr>
      </p:sp>
      <p:sp>
        <p:nvSpPr>
          <p:cNvPr id="18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A number of changes have been made through the Crime and Courts Act 2013 will help promote judicial diversity. These measures included enabling part time working in the senior courts, so that candidates who are not able to commit to a full time position are not disadvantaged. One full time post was open to salaried part-time working in the last High Court recruitment exercise in November 2013</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EB145-C3FF-4431-8150-5B0287481A53}"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39" name="PlaceHolder 1"/>
          <p:cNvSpPr>
            <a:spLocks noGrp="1"/>
          </p:cNvSpPr>
          <p:nvPr>
            <p:ph type="sldImg"/>
          </p:nvPr>
        </p:nvSpPr>
        <p:spPr>
          <a:xfrm>
            <a:off x="871560" y="738360"/>
            <a:ext cx="4917960" cy="3687480"/>
          </a:xfrm>
          <a:prstGeom prst="rect">
            <a:avLst/>
          </a:prstGeom>
          <a:ln w="0">
            <a:noFill/>
          </a:ln>
        </p:spPr>
      </p:sp>
      <p:sp>
        <p:nvSpPr>
          <p:cNvPr id="140"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he specific make up of the Commission means that it has a breadth of knowledge, expertise and indepen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2 commissioners, including the Chairman are appointed through open competition with the other three selected by the Judges' Counc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hairman of the Commission must always be a lay member. Of the 14 other Commission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judicial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must be professional members (each of which must hold a qualification listed below but must not hold the same qualification as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must be lay me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tribunal ju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must be a non-legally qualified judicial memb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Commissioners are appointed in their own right and are not representatives of the professions that they may come from.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34F4-36D7-4ED9-9928-B7605AB2DC1C}"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2" name="PlaceHolder 1"/>
          <p:cNvSpPr>
            <a:spLocks noGrp="1"/>
          </p:cNvSpPr>
          <p:nvPr>
            <p:ph type="sldImg"/>
          </p:nvPr>
        </p:nvSpPr>
        <p:spPr>
          <a:xfrm>
            <a:off x="871560" y="738360"/>
            <a:ext cx="4917960" cy="3687480"/>
          </a:xfrm>
          <a:prstGeom prst="rect">
            <a:avLst/>
          </a:prstGeom>
          <a:ln w="0">
            <a:noFill/>
          </a:ln>
        </p:spPr>
      </p:sp>
      <p:sp>
        <p:nvSpPr>
          <p:cNvPr id="143"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role is to select and recommend candidates, not to appoint them. For each vacancy, Commissioners select one candidate to recommend to the Appropriate Authority (Lord Chancellor, Lord Chief Justice, or Senior President of Tribunals) for appointment. The Appropriate Authority can accept or reject a recommendation, or ask for it to be reconsidered. If he does so he is required to provide his reasons in writing to the Commission. He can only exercise that power once for each candidate and cannot select an alternative candidate.  This has happened on only a handful of occa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5E92C-8EF5-4A71-A7EE-E142542C12A6}"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5" name="PlaceHolder 1"/>
          <p:cNvSpPr>
            <a:spLocks noGrp="1"/>
          </p:cNvSpPr>
          <p:nvPr>
            <p:ph type="sldImg"/>
          </p:nvPr>
        </p:nvSpPr>
        <p:spPr>
          <a:xfrm>
            <a:off x="871560" y="738360"/>
            <a:ext cx="4917960" cy="3687480"/>
          </a:xfrm>
          <a:prstGeom prst="rect">
            <a:avLst/>
          </a:prstGeom>
          <a:ln w="0">
            <a:noFill/>
          </a:ln>
        </p:spPr>
      </p:sp>
      <p:sp>
        <p:nvSpPr>
          <p:cNvPr id="146"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on senior appointments in a mom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A52FF-E154-4F19-A699-52ED9B5DE52F}"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48" name="PlaceHolder 1"/>
          <p:cNvSpPr>
            <a:spLocks noGrp="1"/>
          </p:cNvSpPr>
          <p:nvPr>
            <p:ph type="sldImg"/>
          </p:nvPr>
        </p:nvSpPr>
        <p:spPr>
          <a:xfrm>
            <a:off x="871560" y="738360"/>
            <a:ext cx="4917960" cy="3687480"/>
          </a:xfrm>
          <a:prstGeom prst="rect">
            <a:avLst/>
          </a:prstGeom>
          <a:ln w="0">
            <a:noFill/>
          </a:ln>
        </p:spPr>
      </p:sp>
      <p:sp>
        <p:nvSpPr>
          <p:cNvPr id="149" name="PlaceHolder 2"/>
          <p:cNvSpPr>
            <a:spLocks noGrp="1"/>
          </p:cNvSpPr>
          <p:nvPr>
            <p:ph type="body"/>
          </p:nvPr>
        </p:nvSpPr>
        <p:spPr>
          <a:xfrm>
            <a:off x="887400" y="4671720"/>
            <a:ext cx="4888080" cy="442260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3" marL="16002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36AF0-0EA1-42DA-A0E2-1D94C475074D}"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1" name="PlaceHolder 1"/>
          <p:cNvSpPr>
            <a:spLocks noGrp="1"/>
          </p:cNvSpPr>
          <p:nvPr>
            <p:ph type="sldImg"/>
          </p:nvPr>
        </p:nvSpPr>
        <p:spPr>
          <a:xfrm>
            <a:off x="871560" y="738360"/>
            <a:ext cx="4917960" cy="3687480"/>
          </a:xfrm>
          <a:prstGeom prst="rect">
            <a:avLst/>
          </a:prstGeom>
          <a:ln w="0">
            <a:noFill/>
          </a:ln>
        </p:spPr>
      </p:sp>
      <p:sp>
        <p:nvSpPr>
          <p:cNvPr id="152"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every vacancy we receive a request from the Ministry of Justice which details both the statutory and non-statutory requirements for that specific post. The JAC assesses candidates against these requirements, and also against the </a:t>
            </a:r>
            <a:r>
              <a:rPr b="0" lang="en-GB" sz="1000" spc="-1" strike="noStrike" u="sng">
                <a:solidFill>
                  <a:srgbClr val="ccccff"/>
                </a:solidFill>
                <a:uFillTx/>
                <a:latin typeface="Arial Unicode MS"/>
                <a:hlinkClick r:id="rId1"/>
              </a:rPr>
              <a:t>qualities and abilities</a:t>
            </a:r>
            <a:r>
              <a:rPr b="0" lang="en-GB" sz="1000" spc="-1" strike="noStrike">
                <a:solidFill>
                  <a:srgbClr val="000000"/>
                </a:solidFill>
                <a:latin typeface="Arial Unicode MS"/>
              </a:rPr>
              <a:t> that the Commission has identified as inherent in any good Judg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Experience as a judicial office holder can provide valuable insight into judicial life and help candidates for salaried posts decide whether a full-time appointment is likely to suit them. This is particularly useful as by convention salaried judges do not return to practi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The Lord Chancellor expects that candidates for salaried posts will have sufficient directly relevant previous judicial experience. Only in exceptional cases and if the candidate in question has demonstrated the skills required in some other significant way should an exception be made. The JAC Commission Board would waive this only in wholly exceptional cases. </a:t>
            </a:r>
            <a:br>
              <a:rPr sz="1000"/>
            </a:b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For most fee paid ‘entry level’ posts you will need to have possessed the relevant legal qualification for either five or seven years, and while holding that qualification to have been gaining legal experience.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The Tribunals, Courts and Enforcement Act (2007</a:t>
            </a:r>
            <a:r>
              <a:rPr b="0" lang="en-GB" sz="1000" spc="-1" strike="noStrike">
                <a:solidFill>
                  <a:srgbClr val="000000"/>
                </a:solidFill>
                <a:latin typeface="Arial Unicode MS"/>
              </a:rPr>
              <a:t>) widened eligibility for many posts. It has opened up some judicial posts to Fellows of the Chartered Institute of Legal Executives (CILEx), the Institute of Trade Mark Attorneys (ITMA) and the Chartered Institute of Patent Attorneys (CIPA).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number of years for which a person must have held a qualification before becoming eligible for judicial office was reduced from a minimum of 10 to 7 years and 7 to 5 years depending on the post in question. But remember that’s a minimum. Many candidates applying to be a Judge will have had many more years in practice than that </a:t>
            </a:r>
            <a:endParaRPr b="0" lang="en-US" sz="12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Unicode MS"/>
              </a:rPr>
              <a:t>Government lawyers</a:t>
            </a:r>
            <a:r>
              <a:rPr b="0" lang="en-US" sz="1000" spc="-1" strike="noStrike">
                <a:solidFill>
                  <a:srgbClr val="000000"/>
                </a:solidFill>
                <a:latin typeface="Arial Unicode MS"/>
              </a:rPr>
              <a:t> are eligible to apply for all judicial posts, but when sitting as a fee-paid Judge they must not hear cases involving their own Department. This restriction has the biggest impact on Crown Prosecution Service (CPS) lawyers because the CPS brings most prosecutions.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u="sng">
                <a:solidFill>
                  <a:srgbClr val="000000"/>
                </a:solidFill>
                <a:uFillTx/>
                <a:latin typeface="Arial Unicode MS"/>
              </a:rPr>
              <a:t>CILEx Fellows</a:t>
            </a:r>
            <a:r>
              <a:rPr b="0" lang="en-GB" sz="1000" spc="-1" strike="noStrike">
                <a:solidFill>
                  <a:srgbClr val="000000"/>
                </a:solidFill>
                <a:latin typeface="Arial Unicode MS"/>
              </a:rPr>
              <a:t> are eligible to apply for </a:t>
            </a:r>
            <a:r>
              <a:rPr b="0" lang="en-US" sz="1000" spc="-1" strike="noStrike">
                <a:solidFill>
                  <a:srgbClr val="000000"/>
                </a:solidFill>
                <a:latin typeface="Arial Unicode MS"/>
              </a:rPr>
              <a:t>District Judge, District Judge (Magistrates' Courts), Deputy District Judge, Deputy District Judge (Magistrates' Courts), Road User Charging Adjudicator, Judge of the First-tier Tribunal, Employment Judges, Adjudicators (regulation 17 Civil Enforcement of Parking Conventions).</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re is no upper or lower age limit for candidates for judicial appointments apart from the statutory retirement age of 70 for all judges. The age at which someone is appointed must allow for a reasonable length of service to justify the costs of appointment and initial training. This will be dependent on the nature of the judicial office applied for.</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And in some cases you don’t have to be a lawyer – many tribunals have specialist ‘lay’ members such as doctors, psychiatrists or tax adviso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5052-7671-44ED-8E90-AB1F24DCEB8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4" name="PlaceHolder 1"/>
          <p:cNvSpPr>
            <a:spLocks noGrp="1"/>
          </p:cNvSpPr>
          <p:nvPr>
            <p:ph type="sldImg"/>
          </p:nvPr>
        </p:nvSpPr>
        <p:spPr>
          <a:xfrm>
            <a:off x="874800" y="738360"/>
            <a:ext cx="4916520" cy="3687480"/>
          </a:xfrm>
          <a:prstGeom prst="rect">
            <a:avLst/>
          </a:prstGeom>
          <a:ln w="0">
            <a:noFill/>
          </a:ln>
        </p:spPr>
      </p:sp>
      <p:sp>
        <p:nvSpPr>
          <p:cNvPr id="155"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Unicode MS"/>
              </a:rPr>
              <a:t>How we select – our qualities and abilities</a:t>
            </a:r>
            <a:r>
              <a:rPr b="0" lang="en-GB" sz="1200" spc="-1" strike="noStrike">
                <a:solidFill>
                  <a:srgbClr val="000000"/>
                </a:solidFill>
                <a:latin typeface="Arial Unicode MS"/>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Every stage of every selection process will assess on one or more of these qualities and abilities. It is these and only these that the selection panel care about. The list of required qualities and abilities is mentioned explicitly in the Application Form, where applicants are asked to provide evidence in a self-assessm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Unicode MS"/>
              </a:rPr>
              <a:t>The entire selection process is designed to measure applicants against that framework of qualities and abilities to determine whether a particular candidate is suitable for appointment, and to distinguish between candidates when more than one candidate is sui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776760" y="9340920"/>
            <a:ext cx="2886120" cy="492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AC0DC-35FA-49B5-8D59-DCCD42DA4E89}" type="slidenum">
              <a:rPr b="0" lang="en-GB" sz="1200" spc="-1" strike="noStrike">
                <a:solidFill>
                  <a:srgbClr val="000000"/>
                </a:solidFill>
                <a:latin typeface="Times New Roman"/>
              </a:rPr>
              <a:t>&lt;number&gt;</a:t>
            </a:fld>
            <a:endParaRPr b="0" lang="en-US" sz="1200" spc="-1" strike="noStrike">
              <a:solidFill>
                <a:srgbClr val="5a1b5c"/>
              </a:solidFill>
              <a:latin typeface="Arial"/>
            </a:endParaRPr>
          </a:p>
        </p:txBody>
      </p:sp>
      <p:sp>
        <p:nvSpPr>
          <p:cNvPr id="157" name="PlaceHolder 1"/>
          <p:cNvSpPr>
            <a:spLocks noGrp="1"/>
          </p:cNvSpPr>
          <p:nvPr>
            <p:ph type="sldImg"/>
          </p:nvPr>
        </p:nvSpPr>
        <p:spPr>
          <a:xfrm>
            <a:off x="871560" y="738360"/>
            <a:ext cx="4917960" cy="3687480"/>
          </a:xfrm>
          <a:prstGeom prst="rect">
            <a:avLst/>
          </a:prstGeom>
          <a:ln w="0">
            <a:noFill/>
          </a:ln>
        </p:spPr>
      </p:sp>
      <p:sp>
        <p:nvSpPr>
          <p:cNvPr id="158" name="PlaceHolder 2"/>
          <p:cNvSpPr>
            <a:spLocks noGrp="1"/>
          </p:cNvSpPr>
          <p:nvPr>
            <p:ph type="body"/>
          </p:nvPr>
        </p:nvSpPr>
        <p:spPr>
          <a:xfrm>
            <a:off x="887400" y="4671720"/>
            <a:ext cx="4888080" cy="44226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lection process actually really starts when the JAC receives a vacancy request from Her Majesty's Courts and Tribunals Service or the Ministry of Justice. The vacancy request includes the number of vacancies, a job description and the eligibility requirements set by statute for the post. It may also contain additional selection criteria set by the business are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A43A80-38CD-4F06-B302-39DFE72048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B8B79-322E-46A9-8710-BB07734F9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A27DDB-EAC5-4B5F-A688-B02F862CA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8E6F0A-1D60-4C8D-BE7C-272CADDB6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DDC7C6-15FA-48F2-8E1A-115A5DB5EC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DCD5C-2E7C-4D65-88FD-D97F70ECC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5A40E-4760-435C-835C-298FB86A7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92EDD-AA95-4724-96E4-076916F8A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1622F-172F-4851-84C4-CEBCBF824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23665-691F-47F6-8B3D-30703A5C4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E2F32-542E-49D1-879B-65EB19853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8B1D3-B2AE-4219-914E-3AB188C86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6803A3-3847-415E-977B-F5CB2E4AC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000D8-32DE-4AD1-8DA8-2FB6410A7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C0B207-42D7-4D44-B04A-472AF47AE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32540-B7FD-4303-B897-F07C719A9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4EB67-BF93-4B26-8F2D-52B5E4EF3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55D70-8B07-4EE9-8AFB-00ABB6849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7934C-4571-4DD8-A542-8FFEE16A5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4AD7F-9265-415C-A603-C4159F816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45F17-FCA1-4699-9E44-18D5FFA0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6D5B0-269A-46C9-85C7-776721FC8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5750D-4718-4822-814E-73E514939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a1b5c"/>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2A6CC-8D81-4C87-BB31-1F8AAEE95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A174A-CD76-420B-85CC-A9BC70F45B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jac_rgb"/>
          <p:cNvPicPr/>
          <p:nvPr/>
        </p:nvPicPr>
        <p:blipFill>
          <a:blip r:embed="rId2"/>
          <a:stretch/>
        </p:blipFill>
        <p:spPr>
          <a:xfrm>
            <a:off x="7391520" y="5257800"/>
            <a:ext cx="1123920" cy="1023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jac_rgb"/>
          <p:cNvPicPr/>
          <p:nvPr/>
        </p:nvPicPr>
        <p:blipFill>
          <a:blip r:embed="rId2"/>
          <a:stretch/>
        </p:blipFill>
        <p:spPr>
          <a:xfrm>
            <a:off x="533520" y="457200"/>
            <a:ext cx="1371600" cy="1249200"/>
          </a:xfrm>
          <a:prstGeom prst="rect">
            <a:avLst/>
          </a:prstGeom>
          <a:ln w="0">
            <a:noFill/>
          </a:ln>
        </p:spPr>
      </p:pic>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a1b5c"/>
                </a:solidFill>
                <a:latin typeface="Arial"/>
              </a:rPr>
              <a:t>Click to edit the title text format</a:t>
            </a:r>
            <a:endParaRPr b="1" lang="en-US" sz="4000" spc="-1" strike="noStrike">
              <a:solidFill>
                <a:srgbClr val="5a1b5c"/>
              </a:solidFill>
              <a:latin typeface="Arial"/>
            </a:endParaRPr>
          </a:p>
        </p:txBody>
      </p:sp>
      <p:sp>
        <p:nvSpPr>
          <p:cNvPr id="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2251"/>
              </a:spcBef>
              <a:buClr>
                <a:srgbClr val="5a1b5c"/>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2251"/>
              </a:spcBef>
              <a:buClr>
                <a:srgbClr val="000000"/>
              </a:buClr>
              <a:buSzPct val="150000"/>
              <a:buFont typeface="Symbol"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1b5c"/>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CAD44-CC2E-4DBC-B007-B7A69F4F35E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GB" sz="4000" spc="-1" strike="noStrike">
                <a:solidFill>
                  <a:srgbClr val="5a1b5c"/>
                </a:solidFill>
                <a:latin typeface="Arial"/>
              </a:rPr>
              <a:t>Judicial Appointments Commission: </a:t>
            </a:r>
            <a:br>
              <a:rPr sz="4000"/>
            </a:br>
            <a:br>
              <a:rPr sz="4000"/>
            </a:br>
            <a:r>
              <a:rPr b="1" i="1" lang="en-GB" sz="3200" spc="-1" strike="noStrike">
                <a:solidFill>
                  <a:srgbClr val="5a1b5c"/>
                </a:solidFill>
                <a:latin typeface="Arial"/>
              </a:rPr>
              <a:t>Independent selection</a:t>
            </a:r>
            <a:br>
              <a:rPr sz="3200"/>
            </a:br>
            <a:r>
              <a:rPr b="1" i="1" lang="en-GB" sz="3200" spc="-1" strike="noStrike">
                <a:solidFill>
                  <a:srgbClr val="5a1b5c"/>
                </a:solidFill>
                <a:latin typeface="Arial"/>
              </a:rPr>
              <a:t>through open competition</a:t>
            </a:r>
            <a:r>
              <a:rPr b="1" lang="en-GB" sz="4000" spc="-1" strike="noStrike">
                <a:solidFill>
                  <a:srgbClr val="5a1b5c"/>
                </a:solidFill>
                <a:latin typeface="Arial"/>
              </a:rPr>
              <a:t> </a:t>
            </a:r>
            <a:br>
              <a:rPr sz="4000"/>
            </a:br>
            <a:endParaRPr b="1" lang="en-US" sz="4000" spc="-1" strike="noStrike">
              <a:solidFill>
                <a:srgbClr val="5a1b5c"/>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Good Character</a:t>
            </a:r>
            <a:endParaRPr b="1" lang="en-US" sz="4000" spc="-1" strike="noStrike">
              <a:solidFill>
                <a:srgbClr val="5a1b5c"/>
              </a:solidFill>
              <a:latin typeface="Arial"/>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didates are required to declar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whether or not these have been declared in a previous application; and</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l matters even if already selected for judicial office or are/have been a judicial office holder.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uidance is on our website </a:t>
            </a:r>
            <a:r>
              <a:rPr b="1" lang="en-GB" sz="1800" spc="-1" strike="noStrike">
                <a:solidFill>
                  <a:srgbClr val="000000"/>
                </a:solidFill>
                <a:latin typeface="Arial"/>
              </a:rPr>
              <a:t>jac.judiciary.gov.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pplication levels</a:t>
            </a:r>
            <a:endParaRPr b="1" lang="en-US" sz="4000" spc="-1" strike="noStrike">
              <a:solidFill>
                <a:srgbClr val="5a1b5c"/>
              </a:solidFill>
              <a:latin typeface="Arial"/>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eive around 5000 applications a year and make between 500-600 recommendat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average we receive 10 applications for every vacancy. More for many of the popular entry-level role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general, legal posts attract significantly higher numbers of applicants, including by reference to the number of vacancies, than non-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2. Shortlisting</a:t>
            </a:r>
            <a:endParaRPr b="1" lang="en-US" sz="4000" spc="-1" strike="noStrike">
              <a:solidFill>
                <a:srgbClr val="5a1b5c"/>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hortlisting (to identify candidates to proceed to the Selection Day) is done either by paper sift or qualifying tes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fying tests are designed to assess candidates' ability to perform by: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alysing case studies;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ing issues; and </a:t>
            </a:r>
            <a:endParaRPr b="0" lang="en-US" sz="1800" spc="-1" strike="noStrike">
              <a:solidFill>
                <a:srgbClr val="000000"/>
              </a:solidFill>
              <a:latin typeface="Arial"/>
            </a:endParaRPr>
          </a:p>
          <a:p>
            <a:pPr lvl="2" marL="1143000" indent="-228600">
              <a:spcBef>
                <a:spcPts val="2024"/>
              </a:spcBef>
              <a:buClr>
                <a:srgbClr val="5a1b5c"/>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the law.</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ach test is different, to fit the posts being advertised.</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3. Selection Day</a:t>
            </a:r>
            <a:endParaRPr b="1" lang="en-US" sz="4000" spc="-1" strike="noStrike">
              <a:solidFill>
                <a:srgbClr val="5a1b5c"/>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shortlisted, candidates are invited to a selection day, which may consist of: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views - Interview panels consist of three to five panel members including a Chair, a Judicial Member and an Independent Member.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e play - Role play usually simulates a court or tribunal environment. Candidates are asked to take on the role of judge and respond to a simulated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uational questioning - Situational questioning focuses on what a candidate would do in a specific situation. </a:t>
            </a:r>
            <a:endParaRPr b="0" lang="en-US" sz="1800" spc="-1" strike="noStrike">
              <a:solidFill>
                <a:srgbClr val="000000"/>
              </a:solidFill>
              <a:latin typeface="Arial"/>
            </a:endParaRPr>
          </a:p>
          <a:p>
            <a:pPr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lection decisions</a:t>
            </a:r>
            <a:endParaRPr b="1" lang="en-US" sz="4000" spc="-1" strike="noStrike">
              <a:solidFill>
                <a:srgbClr val="5a1b5c"/>
              </a:solidFill>
              <a:latin typeface="Arial"/>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issioners make the final decision on which candidates to recommend for appointment.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y will take into account character and statutory consulta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the potential recommendation includes an existing salaried judicial office holder, the Office for Judicial Complaints is asked to check whether there are complaints outstanding against them. </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other potential recommendations financial, criminal and professional background checks are carried out</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diverse range of candidates</a:t>
            </a:r>
            <a:endParaRPr b="1" lang="en-US" sz="4000" spc="-1" strike="noStrike">
              <a:solidFill>
                <a:srgbClr val="5a1b5c"/>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attract a strong field of high quality candidates and encourages applications from a wide range of candidates through:</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utreach:</a:t>
            </a:r>
            <a:r>
              <a:rPr b="0" lang="en-GB" sz="2000" spc="-1" strike="noStrike">
                <a:solidFill>
                  <a:srgbClr val="000000"/>
                </a:solidFill>
                <a:latin typeface="Arial"/>
              </a:rPr>
              <a:t> largely digital in line with government-wide policy awareness of roles and process via webinars/seminars, website, vacancy alerts, e-newsletter, articles, advertising, social media.  </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air, open and transparent processes:</a:t>
            </a:r>
            <a:r>
              <a:rPr b="0" lang="en-GB" sz="2000" spc="-1" strike="noStrike">
                <a:solidFill>
                  <a:srgbClr val="000000"/>
                </a:solidFill>
                <a:latin typeface="Arial"/>
              </a:rPr>
              <a:t> equality proofing, assigned commissioner, quality assurance progress checkpoints</a:t>
            </a:r>
            <a:endParaRPr b="0" lang="en-US" sz="2000" spc="-1" strike="noStrike">
              <a:solidFill>
                <a:srgbClr val="000000"/>
              </a:solidFill>
              <a:latin typeface="Arial"/>
            </a:endParaRPr>
          </a:p>
          <a:p>
            <a:pPr marL="322200" indent="-32220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 with partners to break down barriers:</a:t>
            </a:r>
            <a:r>
              <a:rPr b="0" lang="en-GB" sz="2000" spc="-1" strike="noStrike">
                <a:solidFill>
                  <a:srgbClr val="000000"/>
                </a:solidFill>
                <a:latin typeface="Arial"/>
              </a:rPr>
              <a:t> Diversity     Forum, Judicial Diversity Task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The Diversity Monitoring Form</a:t>
            </a:r>
            <a:endParaRPr b="1" lang="en-US" sz="4000" spc="-1" strike="noStrike">
              <a:solidFill>
                <a:srgbClr val="5a1b5c"/>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ur Diversity Monitoring Form covers information regarding age, ethnicity, disability, gender, sexual orientation, religious belief and professional legal background. </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the information collected, results are anonymised and published as Official statistics twice a year</a:t>
            </a:r>
            <a:endParaRPr b="0" lang="en-US" sz="2000" spc="-1" strike="noStrike">
              <a:solidFill>
                <a:srgbClr val="000000"/>
              </a:solidFill>
              <a:latin typeface="Arial"/>
            </a:endParaRPr>
          </a:p>
          <a:p>
            <a:pPr marL="476280" indent="-4762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regarding sexual orientation and religious belief was included in the published tables for the first time this year (June 201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Equal Merit Provision</a:t>
            </a:r>
            <a:endParaRPr b="1" lang="en-US" sz="4000" spc="-1" strike="noStrike">
              <a:solidFill>
                <a:srgbClr val="5a1b5c"/>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allows that where two or more candidates are of equal merit, the JAC may give preference to a candidate for the purpose of increasing the diversity of the judiciary.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olicy will apply to all selection exercises launching on or after 1 July 2014. </a:t>
            </a:r>
            <a:endParaRPr b="0" lang="en-US" sz="1800" spc="-1" strike="noStrike">
              <a:solidFill>
                <a:srgbClr val="000000"/>
              </a:solidFill>
              <a:latin typeface="Arial"/>
            </a:endParaRPr>
          </a:p>
          <a:p>
            <a:pPr marL="343080" indent="-343080">
              <a:lnSpc>
                <a:spcPct val="80000"/>
              </a:lnSpc>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vision will apply: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where two or more selectable candidates are considered to be of equal merit assessed against the advertised requirements for a specific post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the categories of race and gender </a:t>
            </a:r>
            <a:endParaRPr b="0" lang="en-US" sz="1800" spc="-1" strike="noStrike">
              <a:solidFill>
                <a:srgbClr val="000000"/>
              </a:solidFill>
              <a:latin typeface="Arial"/>
            </a:endParaRPr>
          </a:p>
          <a:p>
            <a:pPr marL="343080" indent="0">
              <a:lnSpc>
                <a:spcPct val="80000"/>
              </a:lnSpc>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only at the final selection decision-making stage </a:t>
            </a:r>
            <a:endParaRPr b="0" lang="en-US" sz="1800" spc="-1" strike="noStrike">
              <a:solidFill>
                <a:srgbClr val="000000"/>
              </a:solidFill>
              <a:latin typeface="Arial"/>
            </a:endParaRPr>
          </a:p>
          <a:p>
            <a:pPr marL="343080" indent="0">
              <a:lnSpc>
                <a:spcPct val="80000"/>
              </a:lnSpc>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20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 more diverse judiciary?</a:t>
            </a:r>
            <a:endParaRPr b="1" lang="en-US" sz="4000" spc="-1" strike="noStrike">
              <a:solidFill>
                <a:srgbClr val="5a1b5c"/>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or 2013/14 as a whole</a:t>
            </a:r>
            <a:r>
              <a:rPr b="0" lang="en-GB" sz="2000" spc="-1" strike="noStrike">
                <a:solidFill>
                  <a:srgbClr val="000000"/>
                </a:solidFill>
                <a:latin typeface="Arial"/>
              </a:rPr>
              <a:t> (selections completed April 2013-March 2014):</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women made up just over half of all recommendations (405 out of 806) and 45% of recommendations for legal posts (135 out of 302). </a:t>
            </a: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BAME candidates comprised 11% (86) of all recommendations and 6% (17) of recommendations for legal pos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ince the creation of the JAC</a:t>
            </a:r>
            <a:endParaRPr b="1" lang="en-US" sz="4000" spc="-1" strike="noStrike">
              <a:solidFill>
                <a:srgbClr val="5a1b5c"/>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legal and non-legal roles the JAC has selected: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668 women out of 4021 selections (41%) and 398 BAME candidates out of 4021 selections (10%).</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3% of JAC selections for fee-paid legal roles have been women (35% for salaried legal roles) and 11% of JAC selections for fee-paid legal roles have been BAME candidates; the figure is 5% for salaried legal rol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07 recommendations have been from self declared disabled candidates. This equates to 5.4% of all recommendations.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y does the JAC exist</a:t>
            </a:r>
            <a:endParaRPr b="1" lang="en-US" sz="4000" spc="-1" strike="noStrike">
              <a:solidFill>
                <a:srgbClr val="5a1b5c"/>
              </a:solidFill>
              <a:latin typeface="Arial"/>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was created to bring independence to judicial selection.</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nstitutional Reform Act 2005 gave greater effect to the doctrine of separation of powers, providing for a new and more transparent relationship between the executive, the legislature and the judiciar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ct 2005 was a complex constitutional settlement designed to: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protect judicial independenc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move away from patronag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Introduce fresh thinking into appoint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And a senior level?</a:t>
            </a:r>
            <a:endParaRPr b="1" lang="en-US" sz="4000" spc="-1" strike="noStrike">
              <a:solidFill>
                <a:srgbClr val="5a1b5c"/>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 is now a record number of women (21) in the High Court and seven women in the Court of Appeal</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women (out of 10 recommendations) were promoted to the Court of Appeal in 2013.</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men made up a third of the recommendations in the last two High Court exercise (Queen’s Bench and Family Divisions). </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it will take time for the talent to move upwards</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36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	</a:t>
            </a:r>
            <a:r>
              <a:rPr b="0" lang="en-GB" sz="4000" spc="-1" strike="noStrike">
                <a:solidFill>
                  <a:srgbClr val="000000"/>
                </a:solidFill>
                <a:latin typeface="Arial"/>
              </a:rPr>
              <a:t>Ques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are</a:t>
            </a:r>
            <a:endParaRPr b="1" lang="en-US" sz="4000" spc="-1" strike="noStrike">
              <a:solidFill>
                <a:srgbClr val="5a1b5c"/>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mission is an executive non-departmental public body, sponsored by the Ministry of Justi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are fifteen Commissioners, including the Chairman. All are recruited and appointed through open competition with the exception of three judicial members who are selected by the Judges' Council or the Tribunals' Council.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mbership of the Commission is drawn from the judiciary, the legal profession, non-legally qualified judicial officer holders and the public.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at we do</a:t>
            </a:r>
            <a:endParaRPr b="1" lang="en-US" sz="4000" spc="-1" strike="noStrike">
              <a:solidFill>
                <a:srgbClr val="5a1b5c"/>
              </a:solidFill>
              <a:latin typeface="Arial"/>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JAC selects candidates for judicial office through fair and open competition. We recommend but do not appoint.</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r statutory responsibilities are:</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candidates solely on merit;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select only people of good character; and </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 to have regard to the need to encourage diversity in the range of persons available for judicial selection</a:t>
            </a:r>
            <a:endParaRPr b="0" lang="en-US" sz="1800" spc="-1" strike="noStrike">
              <a:solidFill>
                <a:srgbClr val="000000"/>
              </a:solidFill>
              <a:latin typeface="Arial"/>
            </a:endParaRPr>
          </a:p>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we select</a:t>
            </a:r>
            <a:endParaRPr b="1" lang="en-US" sz="4000" spc="-1" strike="noStrike">
              <a:solidFill>
                <a:srgbClr val="5a1b5c"/>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 recommend to all judicial offices listed in Schedule 14 of the Constitutional Reform Act 2005, amended by the Crime and Courts Act 2013 – In short we select for roles up to and including the High Court</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les include fee-paid and salaried roles and some roles not requiring a legal qualification</a:t>
            </a:r>
            <a:endParaRPr b="0" lang="en-US" sz="2000" spc="-1" strike="noStrike">
              <a:solidFill>
                <a:srgbClr val="000000"/>
              </a:solidFill>
              <a:latin typeface="Arial"/>
            </a:endParaRPr>
          </a:p>
          <a:p>
            <a:pPr marL="339480" indent="-3394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is involved in but does not lead on the selection of the Lord Chief Justice and Lords Justices of Appeal. </a:t>
            </a:r>
            <a:endParaRPr b="0" lang="en-US" sz="2000" spc="-1" strike="noStrike">
              <a:solidFill>
                <a:srgbClr val="000000"/>
              </a:solidFill>
              <a:latin typeface="Arial"/>
            </a:endParaRPr>
          </a:p>
          <a:p>
            <a:pPr marL="339480" indent="-339480">
              <a:spcBef>
                <a:spcPts val="270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JAC does not select for the UK Supreme Court or  magistrates.</a:t>
            </a:r>
            <a:r>
              <a:rPr b="0" lang="en-GB" sz="2400" spc="-1" strike="noStrike">
                <a:solidFill>
                  <a:srgbClr val="000000"/>
                </a:solidFill>
                <a:latin typeface="Arial"/>
              </a:rPr>
              <a:t> </a:t>
            </a:r>
            <a:endParaRPr b="0" lang="en-US" sz="2400" spc="-1" strike="noStrike">
              <a:solidFill>
                <a:srgbClr val="000000"/>
              </a:solidFill>
              <a:latin typeface="Arial"/>
            </a:endParaRPr>
          </a:p>
          <a:p>
            <a:pPr marL="339480" indent="0">
              <a:spcBef>
                <a:spcPts val="27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Senior appointments</a:t>
            </a:r>
            <a:endParaRPr b="1" lang="en-US" sz="4000" spc="-1" strike="noStrike">
              <a:solidFill>
                <a:srgbClr val="5a1b5c"/>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nstitutional Reform Act 2005, amended by the Crime and Courts Act 2013, specifies the membership of panels for selection for judicial offices above High Court level and provides that panels should determine for themselves the selection process they will follow.</a:t>
            </a:r>
            <a:endParaRPr b="0" lang="en-US" sz="20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der the new rules the Chairman of the JAC chaired the panel to select the new Lord Chief Justice in 2013. The panel also included two further lay Commissioners – creating for the first time a lay majority. </a:t>
            </a:r>
            <a:endParaRPr b="0" lang="en-US" sz="2000" spc="-1" strike="noStrike">
              <a:solidFill>
                <a:srgbClr val="000000"/>
              </a:solidFill>
              <a:latin typeface="Arial"/>
            </a:endParaRPr>
          </a:p>
          <a:p>
            <a:pPr marL="34308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Who can apply</a:t>
            </a:r>
            <a:endParaRPr b="1" lang="en-US" sz="4000" spc="-1" strike="noStrike">
              <a:solidFill>
                <a:srgbClr val="5a1b5c"/>
              </a:solidFill>
              <a:latin typeface="Arial"/>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lcome applications from all suitably qualified individual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ssess ‘on merit’ against our published qualities and abilitie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Lord Chancellor expects that candidates for salaried posts will have sufficient directly relevant previous judicial experience</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CE Act widened eligibility - now includes CIPA, ITMA and CILEx</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lawyers can apply – but there are restriction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utory age limit of 70 </a:t>
            </a: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20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5a1b5c"/>
                </a:solidFill>
                <a:latin typeface="Arial"/>
              </a:rPr>
              <a:t>How we select</a:t>
            </a:r>
            <a:endParaRPr b="1" lang="en-US" sz="4000" spc="-1" strike="noStrike">
              <a:solidFill>
                <a:srgbClr val="5a1b5c"/>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0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have published Qualities and Abi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llectual abilit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sonal qualities</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bility to understand and deal fairly,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thority and communication skill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iciency</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adership and management skills (for senior ro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5a1b5c"/>
                </a:solidFill>
                <a:latin typeface="Arial"/>
              </a:rPr>
              <a:t>The Selection process</a:t>
            </a:r>
            <a:br>
              <a:rPr sz="3600"/>
            </a:br>
            <a:r>
              <a:rPr b="1" lang="en-GB" sz="3600" spc="-1" strike="noStrike">
                <a:solidFill>
                  <a:srgbClr val="5a1b5c"/>
                </a:solidFill>
                <a:latin typeface="Arial"/>
              </a:rPr>
              <a:t>1. Making an application</a:t>
            </a:r>
            <a:endParaRPr b="1" lang="en-US" sz="3600" spc="-1" strike="noStrike">
              <a:solidFill>
                <a:srgbClr val="5a1b5c"/>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dvertise all vacancies on our website, through email alerts, in our e-newsletter </a:t>
            </a:r>
            <a:r>
              <a:rPr b="0" i="1" lang="en-GB" sz="1800" spc="-1" strike="noStrike">
                <a:solidFill>
                  <a:srgbClr val="000000"/>
                </a:solidFill>
                <a:latin typeface="Arial"/>
              </a:rPr>
              <a:t>Judging Your Future,</a:t>
            </a:r>
            <a:r>
              <a:rPr b="0" lang="en-GB" sz="1800" spc="-1" strike="noStrike">
                <a:solidFill>
                  <a:srgbClr val="000000"/>
                </a:solidFill>
                <a:latin typeface="Arial"/>
              </a:rPr>
              <a:t> on twitter @becomeajudge and through partner organisations.  </a:t>
            </a:r>
            <a:endParaRPr b="0" lang="en-US" sz="1800" spc="-1" strike="noStrike">
              <a:solidFill>
                <a:srgbClr val="000000"/>
              </a:solidFill>
              <a:latin typeface="Arial"/>
            </a:endParaRPr>
          </a:p>
          <a:p>
            <a:pPr marL="343080" indent="-343080">
              <a:spcBef>
                <a:spcPts val="2024"/>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ually, we give three weeks (sometimes only two) from the day the exercise launches for applications to come to us</a:t>
            </a:r>
            <a:endParaRPr b="0" lang="en-US" sz="1800" spc="-1" strike="noStrike">
              <a:solidFill>
                <a:srgbClr val="000000"/>
              </a:solidFill>
              <a:latin typeface="Arial"/>
            </a:endParaRPr>
          </a:p>
          <a:p>
            <a:pPr marL="343080" indent="-343080">
              <a:spcBef>
                <a:spcPts val="2251"/>
              </a:spcBef>
              <a:buClr>
                <a:srgbClr val="5a1b5c"/>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n completing the self-assessment form we urge candidates to use specific and clear examples that demonstrate each of the qualities and abilities that have been identified for the rol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0T16:28:41Z</dcterms:created>
  <dc:creator>J O'Driscoll</dc:creator>
  <dc:description/>
  <dc:language>en-US</dc:language>
  <cp:lastModifiedBy>Waleed Bagadi</cp:lastModifiedBy>
  <cp:lastPrinted>2009-01-13T11:09:32Z</cp:lastPrinted>
  <dcterms:modified xsi:type="dcterms:W3CDTF">2014-06-17T13:10:18Z</dcterms:modified>
  <cp:revision>72</cp:revision>
  <dc:subject/>
  <dc:title>Communications Action Plan 31 October 2006</dc:title>
</cp:coreProperties>
</file>